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1524-D71B-4393-A42C-A0F12B6E7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7749-E5D3-46BB-BD45-EAE2BBA5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C90D-7EC5-4F6C-859B-39CBBF184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3BD8-C723-47F9-8DF2-C19ACD89D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2875-BD6F-43AE-9A72-5ED8672D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D48C-5D0C-40CC-BE55-10C614CA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74C7-0FC8-410B-A98C-EF29FCAC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D46B-24B1-4386-A353-149153C9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E826-247C-4B46-9886-871656CA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2D80-DF86-43F1-BD22-8D353A8E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AFD9-0D49-448F-AC96-392D9654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9F95-D755-4DDC-9C67-D240424C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12C0-2C54-405F-9665-626635A9E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64000" y="4057560"/>
            <a:ext cx="3838680" cy="2781360"/>
          </a:xfrm>
          <a:prstGeom prst="ellipse">
            <a:avLst/>
          </a:prstGeom>
          <a:solidFill>
            <a:srgbClr val="f3ab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«Весна Победы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Выполнил: ученик 9 «В»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Уханов Миха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148360" y="-189720"/>
            <a:ext cx="3995640" cy="74091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 Rounded MT Bold"/>
                <a:ea typeface="Calibri"/>
              </a:rPr>
              <a:t>В апреле 1945 года прадед вернулся домой, в свой родной город  Никольск. Умер спустя девять лет после окончания войны. Раны дали о себе знать. В честь моего прадеда была названа улица, на которой теперь живу я. На площади был открыт мемориальный комплекс, посвященный героям-никольчанам Великой Отечественной войны, где увековечен</a:t>
            </a:r>
            <a:r>
              <a:rPr b="1" i="1" lang="ru-RU" sz="24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о имя</a:t>
            </a:r>
            <a:r>
              <a:rPr b="1" i="1" lang="ru-RU" sz="2400" spc="-1" strike="noStrike">
                <a:solidFill>
                  <a:srgbClr val="ffff00"/>
                </a:solidFill>
                <a:latin typeface="Arial Rounded MT Bold"/>
                <a:ea typeface="Calibri"/>
              </a:rPr>
              <a:t> мо</a:t>
            </a:r>
            <a:r>
              <a:rPr b="1" i="1" lang="ru-RU" sz="24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его</a:t>
            </a:r>
            <a:r>
              <a:rPr b="1" i="1" lang="ru-RU" sz="2400" spc="-1" strike="noStrike">
                <a:solidFill>
                  <a:srgbClr val="ffff00"/>
                </a:solidFill>
                <a:latin typeface="Arial Rounded MT Bold"/>
                <a:ea typeface="Calibri"/>
              </a:rPr>
              <a:t> прадед</a:t>
            </a:r>
            <a:r>
              <a:rPr b="1" i="1" lang="ru-RU" sz="24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а</a:t>
            </a:r>
            <a:r>
              <a:rPr b="1" i="1" lang="ru-RU" sz="2400" spc="-1" strike="noStrike">
                <a:solidFill>
                  <a:srgbClr val="ffff00"/>
                </a:solidFill>
                <a:latin typeface="Arial Rounded MT Bold"/>
                <a:ea typeface="Calibri"/>
              </a:rPr>
              <a:t>- Кашутин Прохор Ива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4798440"/>
            <a:ext cx="905832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Война…Это слово звучит устрашающе для меня, родившегося в мирное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счастливое время  в семье, наполненной любовью и добротой . Но и нашу семь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Великая Отечественная война не обошла стороной. Мой прадед, Кашути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Прохор Иванович, сражался в этой войне за нашу Родину, за советский наро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Из его рассказов, переданных по наследству, я узнал о коварности фашист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об их жестокости ,  о самоотверженной любви русских солдат к Отчизне, об их безграничной смелост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00360" cy="4581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4360" y="3860640"/>
            <a:ext cx="1704960" cy="2381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700360" y="258480"/>
            <a:ext cx="6192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Мне  уже никто не расскажет о подвигах моего прадед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так как не осталось никого, кто б его знал. Но я рад, что могу прочитать о н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в книге Бокова Ф. Е. «Весна Победы». В годы Великой Отечественной вой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генерал-лейтенант Ф.Е. Боков был военным комиссаром, заместителем начальн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генерального штаба, а на заключительном этапе войны - членом Военного сов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5-й ударной армии. Автор в своих воспоминаниях  повествует о наиболее интерес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операциях , в которых участвовало это прославленное войсковое объединение, о штурм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Берлина, о подвигах воинов. И один из них - подвиг моего праде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208560"/>
            <a:ext cx="33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шутин Прохор Ивано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7000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392112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Утро 30 апреля выдалось холодным, моросил дождь. Во второй половине дня потеплело. В берлинских скверах и парках благоухала сирень. Но там, где мы не видели ни голубого неба, ни примет весны, не затихая, шли бои. Ветер поднимал пыль с развалин, горели здания, ввысь тянулись клубы дыма, заволакивая сол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26478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Сражение в сплошном массиве жилых и ведомственных зданий продолжалось. Наши воины настойчиво продвигались вперед, сокрушая врага и отвоевывая у него метр за метром. После прорыва подразделениями 990-го полка 230-й стрелковой дивизии обороны гитлеровцев в центральном участке на их пути стал механический завод на Альте Якобштрассе, превращенный фашистами в мощный опорный пункт. Впереди высились баррикады, за которыми  укрылись пулеметчики, автоматчики и панцерфаустники. Подходы  к заводу в ряде мест были заминированы. Из амбразур в замурованных окнах железобетонных зданий по наступавшим подразделениям фашисты ударили из станковых пулеметов и автоматов. Мощным огневым ударом наши артиллеристы буквально снесли несколько узлов сопротивления. В образовавшиеся бреши ринулись усиленные штурмовые группы. Одной из них, которой командовал лейтенант В.И. Шабуров,  была поставлена задача: овладеть цех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7000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4618440"/>
            <a:ext cx="9144000" cy="2228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Как и положено, начали с разведки, установили расположение огневых точек, но никак не могли определить пути подхода резервов противника. Разведать это вызвался красноармеец П.И. Кашутин. Он обнаружил, что засевшие в цеху гитлеровцы сообщались с другими узлами сопротивления по деревянному настилу, опущенному в глубокую канаву для стока воды, которая подходила почти вплотную к входу в це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-1800"/>
            <a:ext cx="9144000" cy="4057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И когда командир полка подполковник А.И. Левин приказал начать штурм завода, лейтенант В.И. Шабуров повел штурмовую группу в тыл противника. Отражая атаку других групп  фронта, фашисты заняли в цеху места у бойниц, а у входа, который  они считали своим тылом, никого не было. Воспользовавшись этим, наши воины ворвались в цех. Первым вбежал Прохор Кашутин и метнул две гранаты, а затем открыл огонь из автомата. Уничтожив восемь гитлеровцев, отважный воин захватил вражеский станковый пулемет и, повернув его, стал насквозь простреливать цех. Дерзко и решительно сражались и другие бойцы. Во время перестрелки лейтенант Шабуров был ранен. После перевязки он самоотверженно продолжал руководить боем, пока не упал, потеряв созн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2000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3899520"/>
            <a:ext cx="9118440" cy="283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Увидев это, рядовой Кашутин крикну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- Слушай мою команду! Вперед, на второй этаж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н бросил одну за другой две гранаты на лестничную клетку, вбежал на второй этаж и здесь сразил из своего автомата четырех гитлеровцев. Остальные одиннадцать немецких солдат, которые оставались на этаже, подняли р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Вскоре штурмовая группа овладела цехом. Из бойниц воины стали обстреливать с фланга фашистов, засевших в соседнем строении. Тем временем в бой вступали все новые наши подразделения. Разгромив гарнизон, они полностью очистили от гитлеровцев весь за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7000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90920" cy="6905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219640" y="2565360"/>
            <a:ext cx="3384720" cy="4292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427640" y="55800"/>
            <a:ext cx="489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За образцовое выполнение воинского долга и проявленную в этом бою доблесть лейтенант Валентин Иванович Шабуров и красноармеец Прохор Иванович Кашутин были удостоены высокого звания Героя Советского Союза, а все остальные бойцы штурмовой группы отмечены правительственными наград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11:12:48Z</dcterms:created>
  <dc:creator>Customer</dc:creator>
  <dc:description/>
  <dc:language>en-US</dc:language>
  <cp:lastModifiedBy>User</cp:lastModifiedBy>
  <dcterms:modified xsi:type="dcterms:W3CDTF">2010-09-11T07:02:07Z</dcterms:modified>
  <cp:revision>9</cp:revision>
  <dc:subject/>
  <dc:title>Слайд 1</dc:title>
</cp:coreProperties>
</file>